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89A7-8621-46DC-A7A7-D6127807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971-BE4B-44D9-A894-05F24205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D8D-0FD6-4807-8714-D923B1BF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53D2-0900-43D1-AFD6-EEE8A440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2FB0-2B99-4BD3-8A66-EB2C1591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A4D-2722-47D2-A603-30442876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24E8-3BDC-46F8-8A19-314194C4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9DA-77A3-4A6B-8E91-092BFAB7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61A9-BB38-4A1B-97D9-78EB6E67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A1EA-DBB2-4238-94CA-0CF185AD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15CC-2B31-43F5-B18C-97182DF4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E09-8010-495A-A8E4-40683860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5085-5B00-48D5-83A6-2A82A6F8CC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155520"/>
            <a:ext cx="883908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词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-ing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式用作状语时，其逻辑主语一般应与句子的主语一致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Living in the country, we had few amu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Being unable to help in any other way, I gave her som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从山上看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we can see as far as th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已经失望两次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I decided to work much harder than bef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1148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eing on the top of the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195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aving disappointed myself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23:56:46Z</dcterms:created>
  <dc:creator>user</dc:creator>
  <dc:description/>
  <dc:language>en-US</dc:language>
  <cp:lastModifiedBy>user</cp:lastModifiedBy>
  <dcterms:modified xsi:type="dcterms:W3CDTF">2003-08-09T00:04:42Z</dcterms:modified>
  <cp:revision>2</cp:revision>
  <dc:subject/>
  <dc:title>PowerPoint 演示文稿</dc:title>
</cp:coreProperties>
</file>